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CAE5D-51D1-477C-B874-553587886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BEA93-FE5A-476D-B05E-B22E4C317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2B931-C569-49E2-BCFF-4D51681EE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C5BF1-9837-4D00-BDDC-0CA2B3F58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8AFCB-E7A6-43B7-87B1-F839603A1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2BE11-ED12-45EE-AA88-E1061EE8F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AAD32-44E1-475E-B900-867EED780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0B374-E38C-4356-BA33-A5955DA9A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5E339-EC2E-4C96-938B-C5D8ACF17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245EF-978E-48F4-9B77-0F9CC7505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E8707-E7DA-4EF3-BE97-38D144465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FE3A0-10A3-4CC7-A314-5B992FB8F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3DE7C-26BB-4AB9-86A0-81AEF7677799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alibri"/>
              </a:rPr>
              <a:t>Reading Log #13</a:t>
            </a:r>
            <a:endParaRPr b="0" lang="en-US" sz="8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n-Class Assignmen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alibri"/>
              </a:rPr>
              <a:t>Review</a:t>
            </a:r>
            <a:endParaRPr b="0" lang="en-US" sz="6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In 2-3 sentences, explain the plot up to this poin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10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What has happened to Scout over the course of the book so far?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10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What has occurred in Maycomb?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alibri"/>
              </a:rPr>
              <a:t>Visualize</a:t>
            </a:r>
            <a:endParaRPr b="0" lang="en-US" sz="6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Draw a map or diagram of how the Finches’ neighborhood looks, and draw some other buildings that might surround it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Consider locations previously mentioned in the book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alibri"/>
              </a:rPr>
              <a:t>Theme</a:t>
            </a:r>
            <a:endParaRPr b="0" lang="en-US" sz="6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11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Write 2-3 sentences about one of the themes in </a:t>
            </a:r>
            <a:r>
              <a:rPr b="0" i="1" lang="en-US" sz="4400" spc="-1" strike="noStrike">
                <a:solidFill>
                  <a:srgbClr val="ffffff"/>
                </a:solidFill>
                <a:latin typeface="Calibri"/>
              </a:rPr>
              <a:t>To Kill a Mockingbird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  <a:p>
            <a:pPr lvl="1" marL="705600" indent="-271440">
              <a:spcBef>
                <a:spcPts val="10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What is one of the messages or morals so far in the story?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lvl="1" marL="705600" indent="-271440">
              <a:spcBef>
                <a:spcPts val="10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Where have we seen this moral play out in the plot?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alibri"/>
              </a:rPr>
              <a:t>Predict</a:t>
            </a:r>
            <a:endParaRPr b="0" lang="en-US" sz="6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bri"/>
              </a:rPr>
              <a:t>Write 2-3 sentence explaining the following question: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11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How do you think the last chapters of the book will unfold?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08T17:34:35Z</dcterms:created>
  <dc:creator>.</dc:creator>
  <dc:description/>
  <dc:language>en-US</dc:language>
  <cp:lastModifiedBy>.</cp:lastModifiedBy>
  <dcterms:modified xsi:type="dcterms:W3CDTF">2012-11-08T18:05:48Z</dcterms:modified>
  <cp:revision>2</cp:revision>
  <dc:subject/>
  <dc:title>Reading Log #13</dc:title>
</cp:coreProperties>
</file>